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72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1168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603360" y="900000"/>
            <a:ext cx="45655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1168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993C-E8DD-49CF-8DA9-F72AB321852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D12C-BC84-4A31-8314-96861F02966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292F-B724-40B4-BEEC-DA62F053874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93D0-6AFE-4420-93B4-8C3EAE47A6A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FC3D-F3AE-41B2-9F75-0B36AE38465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9BF1-6FBC-4210-932A-BFFCD23D1CC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28B8-1E89-466C-B8CE-501663E9254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25FD-BA90-4AE4-AF14-31952A615CD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63E7-5ADE-45A6-8010-44351800785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EE6F-5A6D-4FCC-8F09-FAA4C07B2CE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A9D5-547E-4421-A0DD-C8718ED1839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A7F8-0474-4A60-A201-533019B0ADE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1422-ECD9-4084-85E8-B1AFFEB3FE2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DD0C-3658-4767-973C-A6B9F83E4FD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C22F-8461-410E-90A2-CCC6A644E17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A900-E316-445B-A465-B52427A8CBC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398-D180-4399-851E-CB570470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119-9EF6-401E-AF1F-30EB9B7C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0B1-B24E-4D71-817F-81DBDC49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56B-FEF7-44EA-99F0-22BCE153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2FE4-CEE0-4C30-A957-6AA8F48D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8D3B-8FFC-40B7-914A-F3385A7C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05AC-BF85-4FA5-B0F5-0801963B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C974-E050-483B-8832-A2FA2541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A822-D247-4F1A-8D55-320079CC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F2CB-43EE-4448-80CB-88F73FE0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7DBC-F39C-4596-AE05-4D0686EA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A732-7AC9-4520-A974-DEDE97CE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7AF2-C23A-4A33-BA08-E7532E52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06EB-D6BB-4A57-8F0A-6C4377C0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F560-31A4-474C-8E0E-374DD114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3C19-FB95-4C14-9345-D17FB1B8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7719-D0B2-4FB9-9239-ED02134D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DB0-0ED5-48E0-B643-5601D159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0ED-75EC-4631-9E87-A073B3B4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5BF-AAEC-4893-A2A1-3A58C3B9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F52-A56B-4945-BF90-3A289C5C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4D98-91A4-472B-84BF-59BCE7E1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DA9-558B-4292-9581-521D96CD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6CA-8E21-4E40-8521-24C9C9F9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12BF-2899-4C35-85D5-3753B08A560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BF90-9339-4DA9-AE38-571FD807CD8B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rdenman@thetourismcompany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Managing Coastal Environments linked to tou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MG_8635"/>
          <p:cNvPicPr/>
          <p:nvPr/>
        </p:nvPicPr>
        <p:blipFill>
          <a:blip r:embed="rId1"/>
          <a:stretch/>
        </p:blipFill>
        <p:spPr>
          <a:xfrm>
            <a:off x="826920" y="765000"/>
            <a:ext cx="7475760" cy="56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ackling coastal management issu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Generate resources from tourism to support conservation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income from admission and conc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 businesses to support con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 gifting schemes aimed at tour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income from fines and penal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1" name="Picture 6" descr="IMG_0747"/>
          <p:cNvPicPr/>
          <p:nvPr/>
        </p:nvPicPr>
        <p:blipFill>
          <a:blip r:embed="rId1"/>
          <a:stretch/>
        </p:blipFill>
        <p:spPr>
          <a:xfrm>
            <a:off x="539640" y="549360"/>
            <a:ext cx="8209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3" name="Picture 9" descr="IMG_8933"/>
          <p:cNvPicPr/>
          <p:nvPr/>
        </p:nvPicPr>
        <p:blipFill>
          <a:blip r:embed="rId1"/>
          <a:stretch/>
        </p:blipFill>
        <p:spPr>
          <a:xfrm>
            <a:off x="684360" y="692280"/>
            <a:ext cx="7488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IMG_9039"/>
          <p:cNvPicPr/>
          <p:nvPr/>
        </p:nvPicPr>
        <p:blipFill>
          <a:blip r:embed="rId1"/>
          <a:stretch/>
        </p:blipFill>
        <p:spPr>
          <a:xfrm>
            <a:off x="826920" y="33336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chard Den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enman@thetourismcompany.co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Managing coastal environments linked to tourism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lier sections cover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overnance, policies,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fluencing the impact of tourism developments and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e are now addressing some more direct activities for management of coastal environ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is ab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dress the causes and consequences of environmental degradati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 a result of tourism;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other sources, which consequently damage the tourism ass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B. Not a detailed treatment – this was an overall governance and management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3" name="Picture 8" descr="DSCF0207"/>
          <p:cNvPicPr/>
          <p:nvPr/>
        </p:nvPicPr>
        <p:blipFill>
          <a:blip r:embed="rId1"/>
          <a:stretch/>
        </p:blipFill>
        <p:spPr>
          <a:xfrm>
            <a:off x="5076720" y="3789360"/>
            <a:ext cx="3132360" cy="237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DSCF0843"/>
          <p:cNvPicPr/>
          <p:nvPr/>
        </p:nvPicPr>
        <p:blipFill>
          <a:blip r:embed="rId2"/>
          <a:stretch/>
        </p:blipFill>
        <p:spPr>
          <a:xfrm>
            <a:off x="4859280" y="620640"/>
            <a:ext cx="3600360" cy="2524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IMG_9024"/>
          <p:cNvPicPr/>
          <p:nvPr/>
        </p:nvPicPr>
        <p:blipFill>
          <a:blip r:embed="rId3"/>
          <a:stretch/>
        </p:blipFill>
        <p:spPr>
          <a:xfrm>
            <a:off x="1042920" y="3789360"/>
            <a:ext cx="3313080" cy="2330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755640" y="1125360"/>
            <a:ext cx="360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i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astal er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ackling coastal management issu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Monitor environmental change and coordinate respon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itor the state of the environment using basic indicators and observ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y clear lines of respon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together on joint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MG_8606"/>
          <p:cNvPicPr/>
          <p:nvPr/>
        </p:nvPicPr>
        <p:blipFill>
          <a:blip r:embed="rId1"/>
          <a:stretch/>
        </p:blipFill>
        <p:spPr>
          <a:xfrm>
            <a:off x="900000" y="47628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IMG_8440"/>
          <p:cNvPicPr/>
          <p:nvPr/>
        </p:nvPicPr>
        <p:blipFill>
          <a:blip r:embed="rId1"/>
          <a:stretch/>
        </p:blipFill>
        <p:spPr>
          <a:xfrm>
            <a:off x="826920" y="54936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ackling coastal management issu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Raise awareness and facilitate community engagement in conservation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stablish local management groups from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 education programm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with local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ganise events – e.g. beach cle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gage tourism businesses as champ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G_9227"/>
          <p:cNvPicPr/>
          <p:nvPr/>
        </p:nvPicPr>
        <p:blipFill>
          <a:blip r:embed="rId1"/>
          <a:stretch/>
        </p:blipFill>
        <p:spPr>
          <a:xfrm>
            <a:off x="880920" y="11592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5" name="Picture 8" descr="Community_Radio_in_Ghana_001"/>
          <p:cNvPicPr/>
          <p:nvPr/>
        </p:nvPicPr>
        <p:blipFill>
          <a:blip r:embed="rId1"/>
          <a:stretch/>
        </p:blipFill>
        <p:spPr>
          <a:xfrm>
            <a:off x="755640" y="1052640"/>
            <a:ext cx="5545080" cy="360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image_preview-2"/>
          <p:cNvPicPr/>
          <p:nvPr/>
        </p:nvPicPr>
        <p:blipFill>
          <a:blip r:embed="rId2"/>
          <a:stretch/>
        </p:blipFill>
        <p:spPr>
          <a:xfrm>
            <a:off x="4788000" y="3284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Richard Denman</cp:lastModifiedBy>
  <cp:lastPrinted>2013-10-19T18:19:27Z</cp:lastPrinted>
  <dcterms:modified xsi:type="dcterms:W3CDTF">2013-10-19T18:22:58Z</dcterms:modified>
  <cp:revision>49</cp:revision>
  <dc:subject/>
  <dc:title>PowerPoint Presentation</dc:title>
</cp:coreProperties>
</file>